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B41-B074-4969-80AD-366C746C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17A-C4E1-4EAC-8809-1E4D4C25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5C4-131C-44CF-9F34-382258F5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3D9-43EC-4895-B73C-A5BA7FC2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523-8138-4C27-9989-364731E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48E-A973-47FF-910A-8056BB4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FB5-A99D-4990-8905-D1EC350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E15-1F48-40CC-BD11-44FA2A4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090-1D12-49A8-B8F5-A315E6E4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7F-BDB2-4BF0-876E-B6693A8F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D83-7F2B-4C82-89E5-CEAFBDB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732-256B-4C09-8980-B794CD3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82A8-F81A-475C-8DCF-4A347A20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pskovdrb.ru/uploaded_images/IMG_1852-763918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gkirov.ru/mnenia/2008/09/05/igor-perminov-ottok-molodezhi-iz-rajonov-kirovskoj-oblasti-prichiny-i-perspektivy-" TargetMode="External"/><Relationship Id="rId2" Type="http://schemas.openxmlformats.org/officeDocument/2006/relationships/hyperlink" Target="http://www.mgkirov.ru/mnenia/2008/09/05/igor-perminov-ottok-molodezhi-iz-rajonov-kirovskoj-oblasti-prichiny-i-perspektivy-" TargetMode="External"/><Relationship Id="rId3" Type="http://schemas.openxmlformats.org/officeDocument/2006/relationships/hyperlink" Target="http://www.dist-learn.ru/movie/stati/problem.pdf" TargetMode="External"/><Relationship Id="rId4" Type="http://schemas.openxmlformats.org/officeDocument/2006/relationships/hyperlink" Target="http://www.dist-learn.ru/movie/stati/problem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gioncentre.ru/img/content/novosti/piter_obs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newsru.com/pict/id/large/794334_1128483467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3161/69/31616921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48.radikal.ru/i120/0808/7c/f2ca7dcda5e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76280"/>
            <a:ext cx="74487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ы молодёжи</a:t>
            </a:r>
            <a:endParaRPr b="1" i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 и Германии</a:t>
            </a:r>
            <a:endParaRPr b="1" i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Картинка 5 из 15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7082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2360" y="3860640"/>
            <a:ext cx="223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ца 9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ьцева К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98900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mgkirov.ru/mnenia/2008/09/05/igor-perminov-ottok-molodezhi-iz-rajonov-kirovskoj-oblasti-prichiny-i-perspektiv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www.dist-learn.ru/movie/stati/problem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voluntary.ru/dictionary/568/word/%CF%D0%CE%C1%CB%C5%CC%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heburshunchik.ucoz.ru/publ/1-1-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76360" y="260280"/>
            <a:ext cx="600084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уемые ссылки: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89 из 1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0500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0720" y="65880"/>
            <a:ext cx="430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ступление на виртуальном «круглом столе» журнала «Дружба народов»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ейчас в стране нет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просто молоде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едполагать, что люди, входящие в одну и ту же возрастную категорию, уже в силу одного этого факта сегодня сталкиваются с одними и теми же проблемами и вопросами,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научн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еще мягко сказано. Смело можно сказать и по-другому: это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демагог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2054520"/>
            <a:ext cx="4449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БЛЕМ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реч. problema - преграда, трудность, задача) - в широком смысле - сложный теоретический или практический вопрос, требующий разрешения; в узком смысле - ситуация, характеризующаяся недостаточностью средств для достижения некоторой ц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84360" y="476280"/>
            <a:ext cx="3772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обле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ёжи :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637000"/>
            <a:ext cx="360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уч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отдых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что 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чему стрем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4 из 104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21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03280" y="476280"/>
            <a:ext cx="590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возникновения проблем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 молодёжи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148120"/>
            <a:ext cx="33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иалисты центра занятости отмечают две основные причины молодеж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олученная специальность не востребована на рынке труда; 2) отсутствие производственного опы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213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ы могут быть «идеологические» и «социальны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3206520"/>
            <a:ext cx="3240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ы в области семьи непосредственно вытекают из проблем, условно отнесенных к сферам образования и трудоустрой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13 из 10486">
            <a:hlinkClick r:id="rId1"/>
          </p:cNvPr>
          <p:cNvPicPr/>
          <p:nvPr/>
        </p:nvPicPr>
        <p:blipFill>
          <a:blip r:embed="rId2"/>
          <a:stretch/>
        </p:blipFill>
        <p:spPr>
          <a:xfrm rot="20668800">
            <a:off x="468360" y="980640"/>
            <a:ext cx="4457520" cy="352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5 из 10486">
            <a:hlinkClick r:id="rId3"/>
          </p:cNvPr>
          <p:cNvPicPr/>
          <p:nvPr/>
        </p:nvPicPr>
        <p:blipFill>
          <a:blip r:embed="rId4"/>
          <a:stretch/>
        </p:blipFill>
        <p:spPr>
          <a:xfrm rot="841200">
            <a:off x="4787640" y="2852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63640" y="333360"/>
            <a:ext cx="5486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решения 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 молодёжи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918440"/>
            <a:ext cx="784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я опрос среди студентов Тюменского педагогического колледжа №1 по проблеме социальной активности студенческой молодёжи были получены следующие данные: 60% опрошенных с интересом относятся к этой проблеме и 66% респондентов выразили желание проявить себя в разных формах социально - ориентированной деятельности. Соответственно,  40% опрошенных проблема социальной активности молодёжи не интересует, 34% испытуемых не выразили потребности реализовать себя в формах социально – ориентированной деятельности. Аргументация этой позиции такова: нехватка времени, наличие собственных проблем, нет опыта участия в социальной жизни, а потому нет представления об этой проблеме и желания  осуществить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ны ещё и такие данные: на вопрос: «Считаете ли вы, что социальная активность является качеством личности педагога?» утвердительно ответили 81%  опрошенных, отрицательно – 1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623160"/>
            <a:ext cx="84405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в сознании молодёжи есть тенденции к реализации себя в социально - значимых видах деятельности.  Следовательно, проблема нахождения способов развития и стимулирования социальной активности у молодых акту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ие мы видим пути решения этого вопро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В условиях получения профессионального образования есть много возможностей для реализации социальной активности. По мнению 95% опрошенных,  социальную активность они реализуют в разных видах педагогической деятельности (работа вожатыми и воспитателями в летних оздоровительных лагерях, руководителями кружков, секций); 34% студентов отмечают своё участие в волонтёрских отрядах; 30% - в молодёжных организациях, объединениях, 23%  респондентов - активные участники акций СМИ; предвыборной агитацией занималось 12%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На вопрос об участии в других формах общественной жизни, были даны ответы: соревнования разного уровня, олимпиады и конкурсы, концертная деятельность, фестивали, конференции, акции ко дню Победы, Дню Матери, Дню борьбы со СПИДом;  публикации в журналах, газетах, помощь Совету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9 из 10486"/>
          <p:cNvPicPr/>
          <p:nvPr/>
        </p:nvPicPr>
        <p:blipFill>
          <a:blip r:embed="rId1"/>
          <a:stretch/>
        </p:blipFill>
        <p:spPr>
          <a:xfrm rot="20875200">
            <a:off x="394920" y="69228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33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Самопомощь и выздор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5 из 10486"/>
          <p:cNvPicPr/>
          <p:nvPr/>
        </p:nvPicPr>
        <p:blipFill>
          <a:blip r:embed="rId2"/>
          <a:stretch/>
        </p:blipFill>
        <p:spPr>
          <a:xfrm rot="1072200">
            <a:off x="4211640" y="3284640"/>
            <a:ext cx="42861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43640" y="321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765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4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религиозные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1:04:58Z</dcterms:created>
  <dc:creator>User_10</dc:creator>
  <dc:description/>
  <dc:language>en-US</dc:language>
  <cp:lastModifiedBy>User_10</cp:lastModifiedBy>
  <dcterms:modified xsi:type="dcterms:W3CDTF">2009-11-20T08:00:51Z</dcterms:modified>
  <cp:revision>5</cp:revision>
  <dc:subject/>
  <dc:title>Слайд 1</dc:title>
</cp:coreProperties>
</file>